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328C-EFFE-48DA-B721-F4C912D5E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4817-FEDB-49A7-ADEC-2F5C01EB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D90C-3EF4-4C18-A38A-37293E7AD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6B72-1CCD-463D-839E-1DD6EB78E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BD1F-8E86-4D7D-89BA-56263973C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F75F-15D1-44B7-B07C-B389C7A8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6724-2202-4EC3-B8F3-E44A7F3F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0FB5-CD83-4BC4-BDC4-78DAE5E1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32C5-AA13-4C15-96BD-581D6A05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F24F-9DD7-46D3-B6E8-7E71E0D8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6EA5-1C66-4264-B1B8-3C695409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CEBA-E6C5-4AA5-AE16-493C4CEA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4B7B-208E-4E2E-A4A7-F5684A82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7BB1-265C-41FC-946E-20398FE5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634C-140C-473E-8A91-CC3C8261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4757-258E-4E87-9B24-7C0E5021A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AAFD-AB0F-4E23-A877-F920ABDC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0951-0BC0-401E-B904-B93A674E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90CA-75CA-4C49-9552-0EF1404F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4AC5-91DE-474C-BDA5-766D1A35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1D32-5C17-4747-8859-0608D6A0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8EAC-41F4-4F83-A1A8-5AF901B7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60B3-41B6-4782-B7AD-9779F067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CB71-C14B-4D43-835A-CF64C268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D11A-4C2F-486A-A098-FD8F6ADFB00D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C7E0-2363-4951-A56A-41C7E17CE8A0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hepldesk%20ticket.xls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hepldesk%20ticket.xls" TargetMode="External"/><Relationship Id="rId2" Type="http://schemas.openxmlformats.org/officeDocument/2006/relationships/hyperlink" Target="http://magic75.nycenet.edu/selfsupport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iSquad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ustomer Service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d2204"/>
                </a:solidFill>
                <a:latin typeface="Arial"/>
              </a:rPr>
              <a:t>Working with the DOE Help Desk </a:t>
            </a:r>
            <a:endParaRPr b="1" lang="en-US" sz="40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s  computer I’m using  to demonstrate has a problem that cannot be fixed immediately - the hard drive crashed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Let’s examine it to collect the information required to complete and submit a helpdesk ticket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Let’s fill out the form togeth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81080" y="3276720"/>
            <a:ext cx="54864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r the next 20 minutes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xamine the computers at your desk to collect information to submit a helpdesk ticket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omplete the </a:t>
            </a:r>
            <a:r>
              <a:rPr b="0" lang="en-US" sz="3200" spc="-1" strike="noStrike" u="sng">
                <a:solidFill>
                  <a:srgbClr val="995421"/>
                </a:solidFill>
                <a:uFillTx/>
                <a:latin typeface="Arial"/>
                <a:hlinkClick r:id="rId1"/>
              </a:rPr>
              <a:t>Excel form </a:t>
            </a:r>
            <a:r>
              <a:rPr b="0" lang="en-US" sz="3200" spc="-1" strike="noStrike" u="sng">
                <a:solidFill>
                  <a:srgbClr val="212164"/>
                </a:solidFill>
                <a:uFillTx/>
                <a:latin typeface="Arial"/>
              </a:rPr>
              <a:t>as required to report an incident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212164"/>
                </a:solidFill>
                <a:uFillTx/>
                <a:latin typeface="Arial"/>
              </a:rPr>
              <a:t>Step 1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:. Pair up into groups of two</a:t>
            </a:r>
            <a:r>
              <a:rPr b="0" i="1" lang="en-US" sz="2800" spc="-1" strike="noStrike" u="sng">
                <a:solidFill>
                  <a:srgbClr val="212164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212164"/>
                </a:solidFill>
                <a:uFillTx/>
                <a:latin typeface="Arial"/>
              </a:rPr>
              <a:t>Step 2: Use the 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Excel Magic ticket document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212164"/>
                </a:solidFill>
                <a:uFillTx/>
                <a:latin typeface="Arial"/>
              </a:rPr>
              <a:t>Step 4: 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Examine equipment at your desk and locate the information requested on the form.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Complete the form.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212164"/>
                </a:solidFill>
                <a:uFillTx/>
                <a:latin typeface="Arial"/>
              </a:rPr>
              <a:t>Step 5: 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tudents will repeat exercise until all the problems listed have been “reported” on the form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oday we learned how to gather information on a problem and how to report it to the helpdesk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ow we will look at a few of the forms you completed  to be submitted to DOE helpdesk and any problems and good practices discovered while reporting the problem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did you do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ich problem did you report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ere you able to find the necessary information easily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difficult was it to complete the form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long did it take approximately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oes this work address the </a:t>
            </a:r>
            <a:br>
              <a:rPr sz="3600"/>
            </a:b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questions that began the session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64"/>
                </a:solidFill>
                <a:latin typeface="Arial"/>
              </a:rPr>
              <a:t>Answers: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What are some technology problems that require a DOE technician to visit the school to complete the repair?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What information do I need to have on hand before I contact the DOE Helpdesk using the MAGIC system?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29200" y="335268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371600" y="0"/>
            <a:ext cx="297180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Teachers and students encounter various technical problems in the classroon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Some problems are simple and easy to fix but some require special tools or softwar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Many equipment problems require a technician's visit from the DOE helpdesk.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The most efficient way to submit the problem and get a quick response is by using the MAGIC system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Today I am going to show you how to gather the necessary information and submit it to the helpdesk.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Let’s talk about some problems that we encounter in the classroom and school with our computer equipment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nk about which computer problems would need to be fixed by a technician from the helpdesk and make a list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5105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amiliar Sights?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505320" y="1676520"/>
            <a:ext cx="2158920" cy="2361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rot="1306200">
            <a:off x="3962160" y="1523880"/>
            <a:ext cx="22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’m on fire!!!!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2776320" cy="3429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rot="20643000">
            <a:off x="686160" y="5409720"/>
            <a:ext cx="38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e Proxy goes away!!!!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791320" y="533520"/>
            <a:ext cx="2776320" cy="2971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rot="20439600">
            <a:off x="6172200" y="304776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Arial"/>
              </a:rPr>
              <a:t>I can’t get anything to work!!??#$&amp;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648320" y="4572000"/>
            <a:ext cx="1981080" cy="154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 rot="21126600">
            <a:off x="6095880" y="4266720"/>
            <a:ext cx="1428840" cy="990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809880" y="601992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s printer is about to go down!!!!!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Laptop Issu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12600">
            <a:solidFill>
              <a:srgbClr val="21216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Needs a technician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12600">
            <a:solidFill>
              <a:srgbClr val="21216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E can fix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 will now demonstrate what information is necessary to fill out a </a:t>
            </a:r>
            <a:r>
              <a:rPr b="0" lang="en-US" sz="3200" spc="-1" strike="noStrike" u="sng">
                <a:solidFill>
                  <a:srgbClr val="995421"/>
                </a:solidFill>
                <a:uFillTx/>
                <a:latin typeface="Arial"/>
                <a:hlinkClick r:id="rId1"/>
              </a:rPr>
              <a:t>helpdesk Magic ticket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 will then access the website and show you how to fill out the form. (A teacher's confidential e-mail login is required to access Magic).</a:t>
            </a:r>
            <a:br>
              <a:rPr sz="3200"/>
            </a:br>
            <a:r>
              <a:rPr b="0" lang="en-US" sz="3200" spc="-1" strike="noStrike" u="sng">
                <a:solidFill>
                  <a:srgbClr val="995421"/>
                </a:solidFill>
                <a:uFillTx/>
                <a:latin typeface="Arial"/>
                <a:hlinkClick r:id="rId2"/>
              </a:rPr>
              <a:t>http://magic75.nycenet.edu/selfsuppor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Login Pag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55344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CDOE</cp:lastModifiedBy>
  <dcterms:modified xsi:type="dcterms:W3CDTF">2007-03-13T16:46:46Z</dcterms:modified>
  <cp:revision>19</cp:revision>
  <dc:subject/>
  <dc:title>Workshop Title</dc:title>
</cp:coreProperties>
</file>